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8280-4210-467F-810A-80629F1A7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8A1-76B7-4644-8348-BE506E612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6104-07BB-4553-A8FE-97EE35CB2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se on a handou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DC21-C5B4-41D0-8F47-1728EA9E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F737-967A-4A72-BBF8-581733097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D32A-427C-40FA-A8C2-890E7B869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2879-8CB7-42EB-8C49-471B88306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4DD7-BC06-4D83-A0C5-C45C4F84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CE70-BF47-4063-B4E4-9D1D7D6B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05E-B4BB-43B0-82CD-53498F0D8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C6E4-7C14-4B88-A3FE-048B79856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BB9B-7B72-4A87-836E-349CDA64F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2892-95D7-4A3F-9ACB-27AB1BFB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B125-45F6-40BF-8736-7D40D7B04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5B78-9157-44AF-84D6-C8534D794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4D52-A798-4AB5-83A5-96F6EA878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BFEA-E9EE-4376-8E09-7559FC2D4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1423-F2E2-4455-AD5A-5BBEB2F1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D19-12D5-4553-BEE7-D6490664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C6C2-3AE9-4257-B48D-E593421E7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FFF-E1AE-4A96-8162-F883C1370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4278-A465-4C06-824A-0B297C20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BA72-034F-438A-B3E3-E2BB811D3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B1F3-5F66-4738-B373-97CB6393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A6A7-3260-4BAD-9235-72A1EED33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3AA5-1DC9-4AE1-9640-45467F53C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365A-2011-4B6F-8530-1439AB00A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4918-6509-4073-AD92-AD461952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C540-A991-4675-842B-0FB8234DE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2D57-54B9-4898-B1ED-732B88DC3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3079-8593-43A5-85CC-AE6F907EB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C420-3F0E-474F-B1B0-DDAEA0F0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367B-A2E8-41C7-A9EA-35DD790BB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CC8A-7417-4BB1-AC71-AF367F42C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1EFD-E3B4-4DF6-B26B-2360B89A8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4CCF-7831-4174-AB00-9F1DA0F6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9A29-E041-4EF4-B4FB-2709DECE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291B-CA62-4C5E-AE9A-8DF4D594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BA73-DCCD-403C-8B69-39FFE94D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218A-FCF6-4BC0-8C85-CAAF56230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C9D1-9311-40B6-B051-4F61C9580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CAF7-AF8B-4694-B7D3-38029CB5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1D0-4E71-44CE-8E21-242D42815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3DC7-5253-4733-BE88-CBFC4CD1C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D07E-5F21-41AA-B57D-5C382EAE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307-FF9D-4F08-B4D3-CF04EAD5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973-4FD3-4060-AE05-A851C453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63E-9D50-4D9D-90E0-9C30D45A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1B6-D4ED-4C21-87FE-D2856AAC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669B-D74B-4336-84F0-87F428C6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3F13-44A5-4073-81B4-98D01E33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9EC-D1A0-481A-9294-100BDB17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D749-A3D0-45BE-A1D7-8DB9B2C9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2B5D-260F-40B6-9E92-E73BCD45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11D7-706B-4671-8619-2CBD2DB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8D51-5E83-4CC1-80C4-FE9FBBA8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425-D636-43D9-AEB0-ECF86287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DA09-0098-4021-805E-2B1EDE0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2D5-9E91-4887-904C-C1AEE8F9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C752-0EC3-42B7-B12F-55D62E28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92FC-4F37-4F52-9921-D3C4C2A7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A76A-86F3-4B48-B224-8C0FBACA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7B6-0603-4EEA-87FE-3912FF32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20F-425A-49AF-A803-718C338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B51-0413-4AB9-8643-9FD9B2CF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6EA-1B07-4781-8BAA-793F94AA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9D8-DD15-4D0E-8F7F-A8ED3491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CC1-1587-482C-B2E6-34593D65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D6F-D132-45B9-9CC8-2BA53CAF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2600-F7DE-480A-B9C2-23BBF85D432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6AC6-CCD9-4CA2-A8D6-18972B16003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1066680" y="99072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BB51-784F-4379-9098-4D79DA5E0A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066680" y="9907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E1D7-C635-4803-B071-B5EE92F902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’m hoping that you will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51460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ke these goals and talk about how to focus them to relate more explicitly to one or more of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8276-CC4D-4C09-B4E7-FFA83732855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rk with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43000" y="22860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least 2 new colleagues to try to reshape/refocus at least two of the goals. Be ready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2C9E-3EB9-4EC8-AD17-B97D66CF67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Just checking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r goal consider both processes and cont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23E-E89A-42DE-815A-6CB0BF89E5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182880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the same colleagues to write consolidating questions for two of those goals that would bring them into the spotlight for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8AB5-7071-4056-B37E-A76A68CEAB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18288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them in the appropriate sp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C3AC-4004-4B4C-A739-D2224C8344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do a gallery walk looking at the questions that were cre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E08-AE0D-4F37-BD7D-2A3AF0A120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loud Callout 9"/>
          <p:cNvSpPr/>
          <p:nvPr/>
        </p:nvSpPr>
        <p:spPr>
          <a:xfrm>
            <a:off x="838080" y="160020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loud Callout 8"/>
          <p:cNvSpPr/>
          <p:nvPr/>
        </p:nvSpPr>
        <p:spPr>
          <a:xfrm>
            <a:off x="5715000" y="152388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 th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9F70-058D-41CB-A9A5-4B5FA6A3E5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5867280" y="18288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pecific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523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4038480" y="373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53341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solidating (and other)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1"/>
          <p:cNvCxnSpPr/>
          <p:nvPr/>
        </p:nvCxnSpPr>
        <p:spPr>
          <a:xfrm>
            <a:off x="3885120" y="2971800"/>
            <a:ext cx="68652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6" name="Straight Arrow Connector 15"/>
          <p:cNvCxnSpPr/>
          <p:nvPr/>
        </p:nvCxnSpPr>
        <p:spPr>
          <a:xfrm>
            <a:off x="4876920" y="4419720"/>
            <a:ext cx="457920" cy="7848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 flipH="1">
            <a:off x="5257080" y="3123720"/>
            <a:ext cx="686520" cy="762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up. 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AC0-3494-4E60-91CE-2C429E8E01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tting Less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23623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reinforces what you do now r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E16B-6EC5-4B0E-8D61-4932BA00C0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43000" y="16765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ticipating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3803-7830-4A7F-B602-2B97363631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66680" y="182880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FFD1-7034-4019-97E7-3C41FE18F2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82880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747-B6DC-43E4-81F2-3B717315DA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182880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E847-D89D-437E-8C61-47A12837D5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A504-1FD9-4600-8444-141F5F6987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066680" y="182880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goal for one or two subsequent les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AC5-9883-4AA1-AA18-BAEE5E74A1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goals you decided up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question might you ask at the end of the problem discussion to get at that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8EB8-8A8C-4808-B6D7-5954D9AB14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8288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your thoughts with another p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you surprised, or not, at the different directions other pairs t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D9E-A1B0-453D-9376-BCD2CDA056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82880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a partner, share a problem your students struggle with and explain the strugg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1AFA-0C5F-4A43-97F2-E1221647B3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in a group with 3 others. One of you begins and asks the next pers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4AA-5E82-4989-824F-F605429EB1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82880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partner can help you think about an appropriate lesson goal to get at this iss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you can frame a question to get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56AA-F698-4772-9846-AA7B1C8434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lleague suggests s/he just doesn’t have the time to anticipate student problems; s/he’ll just deal with them as they ar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EB3C-8915-471A-9FE9-156630D735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90720" y="25909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play with a partner. Play critical friend and convince the person otherw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erse ro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4F13-D039-45A6-8695-5E0C8FABD4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fferentiat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focus in our next few sessions on ways to differentiate instruction (not just differentiate practic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A7CC-6552-42C4-8BBD-FF1141EBC7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e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al approaches of offering additional tools or scaffolding by presenting problems in bits, etc. is only one way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4D62-EEDB-40EA-808B-7D99639627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teach differen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7A06-50DB-4F0B-9BCF-2EE7BDBBA6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teach differen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E4AF-2E7F-4E0F-9637-C33AEFC230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5CC-3D00-426B-8406-F4C9FB76F8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3CAB-B988-46F9-9E84-EAE4ECEA9D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61AB-A9E0-48FA-A362-D0EFA72B56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important things to think about when creating a lesson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17E-0B3C-490C-9755-DE717F0430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9AC2-3EA5-43D2-9818-8EE3452B330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open question about creating a pattern with a particular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1BB0-6482-4865-BB1D-2DC7422CBC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C3F1-E29E-4F4E-91F1-2CDC7C1422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knowing the “problem” some grade 7-9 teachers might have with grade 11 or 12 content, we differentiated the task appropriately (I hop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CF45-F1CE-416A-AC93-CCD92747DE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0D05-2124-4BE1-8EA6-EDCD068509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to com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be doing lots more of this in the next couple of d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13A0-16D0-462D-958C-76303978CE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person replies, then the next, the next, and then it goes back to the start– that person gets the last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D91F-8838-4F09-95C8-6411E16B5D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most interesting idea you heard during this minds-on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E97D-0E44-4153-B3ED-7734676039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93760" y="260676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F7C-678A-4E01-BB0D-953D161046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93760" y="26067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C6C8-CADD-49EE-99CD-7A74DCBAF0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09C0-82AD-4A0D-A55A-C3822DFDE5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0:05:49Z</dcterms:created>
  <dc:creator>PSteele</dc:creator>
  <dc:description/>
  <dc:language>en-US</dc:language>
  <cp:lastModifiedBy>Marian Small</cp:lastModifiedBy>
  <dcterms:modified xsi:type="dcterms:W3CDTF">2009-07-24T18:58:12Z</dcterms:modified>
  <cp:revision>201</cp:revision>
  <dc:subject/>
  <dc:title>Slide 1</dc:title>
</cp:coreProperties>
</file>